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8DA4-E3AF-485F-AC14-CD325DE55C87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slide" Target="../slides/slide11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slide" Target="../slides/slide5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мерших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136E-4452-49DF-83A4-9CEF2CCC6E5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D6DD-B7F1-4F54-A343-AD1CC0BD7B2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коморохи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ни возникли не позже середины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I ве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об этом мы можем судить по фреска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офийского собор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иев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037 год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гудка, гусель, жалейки, бубна. За каждым персонажем был закреплён определённый характер и маска, которые не менялись годами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F533-A24A-4B5A-99CA-1E6564AD142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DEF2-F05C-48B8-A141-F84EF179449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4131-F484-42D1-911D-22F917E37F5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FF16-5FA4-458E-8308-4F7BAD400E9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 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центре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ебывалой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о </a:t>
            </a:r>
            <a:r>
              <a:rPr b="1" i="1" lang="et-EE" sz="1200" spc="-1" strike="noStrike" u="sng">
                <a:solidFill>
                  <a:srgbClr val="0000ff"/>
                </a:solidFill>
                <a:uFillTx/>
                <a:latin typeface="Comic Sans MS"/>
              </a:rPr>
              <a:t>Вольг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57AB-6553-42BE-B261-660CB148065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MZmEy-yeqd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0C44-A3EF-45C4-84CF-CC4D07EE801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100" spc="-1" strike="noStrike">
                <a:solidFill>
                  <a:srgbClr val="0000ff"/>
                </a:solidFill>
                <a:latin typeface="Comic Sans MS"/>
              </a:rPr>
              <a:t> —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 наиболее распространён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Г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удок  похож на скрипк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803B-72D1-4E44-9F21-5C24CBC3420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вирел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Жалей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F2E6-225A-4CF0-A67D-0CD91A71640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BA4C3-0B2B-4046-9B9F-21C4CA77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960FA-DE01-41B5-BE69-A99DC1A8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5347-64B0-40BF-957C-3699CFFE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02F10-C621-4F42-A931-4729009A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9FEF-6816-40D6-AB4F-0CF5B19A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3C17-807F-4B1A-AF45-4C83088B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506B-FB68-4BF1-8795-309D2DCC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A30B-589A-47E3-901D-4E3DDAC8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5D7F-DAB6-4004-918B-CE922140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F6F6-876A-465E-B8BD-B9777332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2925-CAF8-4FF0-B1A0-CB8A3FB6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D56D7-C884-4E7E-80A8-B581DE9D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DAF0-D336-489D-A16A-F2BB9C0C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228E-7133-477A-8A31-65EB9A23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A434-7236-4C93-93EB-FFF6EC20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569F-10E3-4EBF-96D6-A26C6023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5B12-4BC2-475B-AF16-638A26DA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E165-08B5-4985-96CA-973B4EE0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62858-4DF4-4E1C-AD3B-DB890791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31BE-8072-4082-9B91-AB49DF4C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C1D4-5618-4596-922E-7EA32B0B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81617-F371-436C-BAED-7DAF5723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28F90-15A1-4089-9C6A-7CB38C95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AEB49-6040-4630-B38B-99B44CD9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0FD8-2729-465C-8EE9-86689DC0F3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A233-86F0-4198-8F9D-CD7CE2CBAA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youtube.com/watch?v=4kspI58CUp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hyperlink" Target="http://ru.wikipedia.org/wiki/&#1043;&#1091;&#1076;&#1086;&#1082;_(&#1084;&#1091;&#1079;&#1099;&#1082;&#1072;&#1083;&#1100;&#1085;&#1099;&#1081;_&#1080;&#1085;&#1089;&#1090;&#1088;&#1091;&#1084;&#1077;&#1085;&#1090;)" TargetMode="External"/><Relationship Id="rId6" Type="http://schemas.openxmlformats.org/officeDocument/2006/relationships/hyperlink" Target="http://ru.wikipedia.org/wiki/&#1043;&#1091;&#1089;&#1083;&#1080;" TargetMode="External"/><Relationship Id="rId7" Type="http://schemas.openxmlformats.org/officeDocument/2006/relationships/hyperlink" Target="http://ru.wikipedia.org/wiki/&#1046;&#1072;&#1083;&#1077;&#1081;&#1082;&#1072;" TargetMode="External"/><Relationship Id="rId8" Type="http://schemas.openxmlformats.org/officeDocument/2006/relationships/hyperlink" Target="http://ru.wikipedia.org/wiki/&#1041;&#1091;&#1073;&#1077;&#1085;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hyperlink" Target="http://nasyuk.moskva.com/fotogalereja-plankton/instrumenty/gusli/24540811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hyperlink" Target="http://img0.liveinternet.ru/images/attach/b/3/28/238/28238041_10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hyperlink" Target="http://www.youtube.com/watch?v=dpHQxnJ2n5I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www.youtube.com/watch?v=rmquifCKaIw&amp;feature=related" TargetMode="External"/><Relationship Id="rId4" Type="http://schemas.openxmlformats.org/officeDocument/2006/relationships/hyperlink" Target="http://www.youtube.com/watch?v=mREJPfFLr9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764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829800"/>
            <a:ext cx="432108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800" spc="-1" strike="noStrike">
                <a:solidFill>
                  <a:srgbClr val="ccecff"/>
                </a:solidFill>
                <a:latin typeface="Comic Sans MS"/>
              </a:rPr>
              <a:t>мерших</a:t>
            </a: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on_music"/>
          <p:cNvPicPr/>
          <p:nvPr/>
        </p:nvPicPr>
        <p:blipFill>
          <a:blip r:embed="rId1"/>
          <a:stretch/>
        </p:blipFill>
        <p:spPr>
          <a:xfrm>
            <a:off x="4859280" y="901800"/>
            <a:ext cx="4002120" cy="5500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mages"/>
          <p:cNvPicPr/>
          <p:nvPr/>
        </p:nvPicPr>
        <p:blipFill>
          <a:blip r:embed="rId1"/>
          <a:stretch/>
        </p:blipFill>
        <p:spPr>
          <a:xfrm>
            <a:off x="4716360" y="260280"/>
            <a:ext cx="4091040" cy="3597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127960" y="5981760"/>
            <a:ext cx="5497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http://www.youtube.com/watch?v=4kspI58CUpU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48000" y="188640"/>
            <a:ext cx="561672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коморохи 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ни возникли не позже середины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XI ве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об этом мы можем судить по фрескам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Софийского собор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в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Киеве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1037 год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гуд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гусель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жалейки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бубн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За каждым персонажем был закреплён определённый характер и маска, которые не менялись годами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9" descr="isi129a"/>
          <p:cNvPicPr/>
          <p:nvPr/>
        </p:nvPicPr>
        <p:blipFill>
          <a:blip r:embed="rId9"/>
          <a:stretch/>
        </p:blipFill>
        <p:spPr>
          <a:xfrm>
            <a:off x="900000" y="404640"/>
            <a:ext cx="1782720" cy="324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baladins"/>
          <p:cNvPicPr/>
          <p:nvPr/>
        </p:nvPicPr>
        <p:blipFill>
          <a:blip r:embed="rId10"/>
          <a:stretch/>
        </p:blipFill>
        <p:spPr>
          <a:xfrm>
            <a:off x="468360" y="4005360"/>
            <a:ext cx="2881440" cy="23749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800"/>
            </a:b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773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40d44b671f62"/>
          <p:cNvPicPr/>
          <p:nvPr/>
        </p:nvPicPr>
        <p:blipFill>
          <a:blip r:embed="rId1"/>
          <a:stretch/>
        </p:blipFill>
        <p:spPr>
          <a:xfrm>
            <a:off x="250920" y="790560"/>
            <a:ext cx="8713800" cy="59515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19" name="Picture 7" descr="152[1]"/>
          <p:cNvPicPr/>
          <p:nvPr/>
        </p:nvPicPr>
        <p:blipFill>
          <a:blip r:embed="rId1"/>
          <a:stretch/>
        </p:blipFill>
        <p:spPr>
          <a:xfrm>
            <a:off x="324000" y="1052640"/>
            <a:ext cx="4319280" cy="525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39978897_14"/>
          <p:cNvPicPr/>
          <p:nvPr/>
        </p:nvPicPr>
        <p:blipFill>
          <a:blip r:embed="rId2"/>
          <a:stretch/>
        </p:blipFill>
        <p:spPr>
          <a:xfrm>
            <a:off x="4859280" y="1052640"/>
            <a:ext cx="3889440" cy="5256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6697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 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В центре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ебывалой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о </a:t>
            </a:r>
            <a:r>
              <a:rPr b="1" i="1" lang="et-EE" sz="1600" spc="-1" strike="noStrike" u="sng">
                <a:solidFill>
                  <a:srgbClr val="ccecff"/>
                </a:solidFill>
                <a:uFillTx/>
                <a:latin typeface="Comic Sans MS"/>
              </a:rPr>
              <a:t>Вольг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9" descr="Иллюстрация к книге «Слово о полку Игореве» — гравюра В. А. Фаворского, 1938 год"/>
          <p:cNvPicPr/>
          <p:nvPr/>
        </p:nvPicPr>
        <p:blipFill>
          <a:blip r:embed="rId5"/>
          <a:stretch/>
        </p:blipFill>
        <p:spPr>
          <a:xfrm>
            <a:off x="6948360" y="189000"/>
            <a:ext cx="2195640" cy="6408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634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8" descr="0011-013-Dobrynja-nikitich-ilja-muromets-i-aljosha-popovich"/>
          <p:cNvPicPr/>
          <p:nvPr/>
        </p:nvPicPr>
        <p:blipFill>
          <a:blip r:embed="rId1"/>
          <a:stretch/>
        </p:blipFill>
        <p:spPr>
          <a:xfrm>
            <a:off x="826920" y="549360"/>
            <a:ext cx="7490160" cy="52228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56000" y="5949720"/>
            <a:ext cx="2530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88640"/>
            <a:ext cx="525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://www.youtube.com/watch?v=MZmEy-yeqd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9" descr="24540811_9e04b8ee257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333360"/>
            <a:ext cx="3708360" cy="54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10552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dfdfe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400" spc="-1" strike="noStrike">
                <a:solidFill>
                  <a:srgbClr val="ccecff"/>
                </a:solidFill>
                <a:latin typeface="Comic Sans MS"/>
              </a:rPr>
              <a:t> — </a:t>
            </a:r>
            <a:r>
              <a:rPr b="0" lang="ru-RU" sz="14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 наиболее распространён в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Г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удок  похож на скрипку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и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9" descr="Картинка 6 из 493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89000"/>
            <a:ext cx="4284720" cy="35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6"/>
          <a:stretch/>
        </p:blipFill>
        <p:spPr>
          <a:xfrm>
            <a:off x="4648320" y="3938760"/>
            <a:ext cx="4495680" cy="2919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2058480" y="6491160"/>
            <a:ext cx="5523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http://www.youtube.com/watch?v=dpHQxnJ2n5I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j445968_1295978668"/>
          <p:cNvPicPr/>
          <p:nvPr/>
        </p:nvPicPr>
        <p:blipFill>
          <a:blip r:embed="rId1"/>
          <a:stretch/>
        </p:blipFill>
        <p:spPr>
          <a:xfrm>
            <a:off x="395280" y="189000"/>
            <a:ext cx="4897440" cy="3265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0025cawb"/>
          <p:cNvPicPr/>
          <p:nvPr/>
        </p:nvPicPr>
        <p:blipFill>
          <a:blip r:embed="rId2"/>
          <a:stretch/>
        </p:blipFill>
        <p:spPr>
          <a:xfrm>
            <a:off x="4427640" y="3573360"/>
            <a:ext cx="4535280" cy="3022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103480" y="365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398920" y="124200"/>
            <a:ext cx="374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вирель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250920" y="3443400"/>
            <a:ext cx="40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Жалей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68360" y="2708280"/>
            <a:ext cx="396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http://www.youtube.com/watch?v=rmquifCKaIw&amp;feature=relat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660480" y="6491160"/>
            <a:ext cx="55238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http://www.youtube.com/watch?v=mREJPfFLr9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6:49:39Z</dcterms:created>
  <dc:creator>Opetaja</dc:creator>
  <dc:description/>
  <dc:language>en-US</dc:language>
  <cp:lastModifiedBy>LEGION</cp:lastModifiedBy>
  <dcterms:modified xsi:type="dcterms:W3CDTF">2015-04-02T07:26:09Z</dcterms:modified>
  <cp:revision>10</cp:revision>
  <dc:subject/>
  <dc:title>Музыка Древней Руси</dc:title>
</cp:coreProperties>
</file>